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383625" cy="30275213"/>
  <p:notesSz cx="43073638" cy="3210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1706-4F4D-4A39-BC0B-22A1E504A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560" y="1212840"/>
            <a:ext cx="19245240" cy="504504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ctr">
            <a:noAutofit/>
          </a:bodyPr>
          <a:p>
            <a:pPr indent="0" algn="ctr">
              <a:buNone/>
              <a:tabLst>
                <a:tab algn="l" pos="0"/>
                <a:tab algn="l" pos="3122640"/>
                <a:tab algn="l" pos="6245280"/>
                <a:tab algn="l" pos="936792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9560" y="7063920"/>
            <a:ext cx="19245240" cy="953100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3122640"/>
                <a:tab algn="l" pos="6245280"/>
                <a:tab algn="l" pos="9367920"/>
              </a:tabLst>
            </a:pPr>
            <a:endParaRPr b="0" lang="en-US" sz="10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9560" y="17500680"/>
            <a:ext cx="19245240" cy="953100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3122640"/>
                <a:tab algn="l" pos="6245280"/>
                <a:tab algn="l" pos="9367920"/>
              </a:tabLst>
            </a:pPr>
            <a:endParaRPr b="0" lang="en-US" sz="10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5768-73EE-4A2D-83D4-0E57E9E8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560" y="1212840"/>
            <a:ext cx="19245240" cy="504504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ctr">
            <a:noAutofit/>
          </a:bodyPr>
          <a:p>
            <a:pPr indent="0" algn="ctr">
              <a:buNone/>
              <a:tabLst>
                <a:tab algn="l" pos="0"/>
                <a:tab algn="l" pos="3122640"/>
                <a:tab algn="l" pos="6245280"/>
                <a:tab algn="l" pos="936792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9560" y="7063920"/>
            <a:ext cx="9391320" cy="953100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3122640"/>
                <a:tab algn="l" pos="6245280"/>
                <a:tab algn="l" pos="9367920"/>
              </a:tabLst>
            </a:pPr>
            <a:endParaRPr b="0" lang="en-US" sz="10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30680" y="7063920"/>
            <a:ext cx="9391320" cy="953100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3122640"/>
                <a:tab algn="l" pos="6245280"/>
                <a:tab algn="l" pos="9367920"/>
              </a:tabLst>
            </a:pPr>
            <a:endParaRPr b="0" lang="en-US" sz="10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9560" y="17500680"/>
            <a:ext cx="9391320" cy="953100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3122640"/>
                <a:tab algn="l" pos="6245280"/>
                <a:tab algn="l" pos="9367920"/>
              </a:tabLst>
            </a:pPr>
            <a:endParaRPr b="0" lang="en-US" sz="10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0930680" y="17500680"/>
            <a:ext cx="9391320" cy="953100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3122640"/>
                <a:tab algn="l" pos="6245280"/>
                <a:tab algn="l" pos="9367920"/>
              </a:tabLst>
            </a:pPr>
            <a:endParaRPr b="0" lang="en-US" sz="10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A771-938B-4BD8-A437-64D1DDA25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560" y="1212840"/>
            <a:ext cx="19245240" cy="504504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ctr">
            <a:noAutofit/>
          </a:bodyPr>
          <a:p>
            <a:pPr indent="0" algn="ctr">
              <a:buNone/>
              <a:tabLst>
                <a:tab algn="l" pos="0"/>
                <a:tab algn="l" pos="3122640"/>
                <a:tab algn="l" pos="6245280"/>
                <a:tab algn="l" pos="936792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9560" y="7063920"/>
            <a:ext cx="6196680" cy="953100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3122640"/>
                <a:tab algn="l" pos="6245280"/>
                <a:tab algn="l" pos="9367920"/>
              </a:tabLst>
            </a:pPr>
            <a:endParaRPr b="0" lang="en-US" sz="10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576560" y="7063920"/>
            <a:ext cx="6196680" cy="953100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3122640"/>
                <a:tab algn="l" pos="6245280"/>
                <a:tab algn="l" pos="9367920"/>
              </a:tabLst>
            </a:pPr>
            <a:endParaRPr b="0" lang="en-US" sz="10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083200" y="7063920"/>
            <a:ext cx="6196680" cy="953100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3122640"/>
                <a:tab algn="l" pos="6245280"/>
                <a:tab algn="l" pos="9367920"/>
              </a:tabLst>
            </a:pPr>
            <a:endParaRPr b="0" lang="en-US" sz="10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9560" y="17500680"/>
            <a:ext cx="6196680" cy="953100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3122640"/>
                <a:tab algn="l" pos="6245280"/>
                <a:tab algn="l" pos="9367920"/>
              </a:tabLst>
            </a:pPr>
            <a:endParaRPr b="0" lang="en-US" sz="10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576560" y="17500680"/>
            <a:ext cx="6196680" cy="953100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3122640"/>
                <a:tab algn="l" pos="6245280"/>
                <a:tab algn="l" pos="9367920"/>
              </a:tabLst>
            </a:pPr>
            <a:endParaRPr b="0" lang="en-US" sz="10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083200" y="17500680"/>
            <a:ext cx="6196680" cy="953100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3122640"/>
                <a:tab algn="l" pos="6245280"/>
                <a:tab algn="l" pos="9367920"/>
              </a:tabLst>
            </a:pPr>
            <a:endParaRPr b="0" lang="en-US" sz="10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FA64-BF5C-4A41-B5E2-AB320DCCC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560" y="1212840"/>
            <a:ext cx="19245240" cy="504504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ctr">
            <a:noAutofit/>
          </a:bodyPr>
          <a:p>
            <a:pPr indent="0" algn="ctr">
              <a:buNone/>
              <a:tabLst>
                <a:tab algn="l" pos="0"/>
                <a:tab algn="l" pos="3122640"/>
                <a:tab algn="l" pos="6245280"/>
                <a:tab algn="l" pos="936792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9560" y="7063920"/>
            <a:ext cx="19245240" cy="199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63"/>
              </a:spcBef>
              <a:buNone/>
              <a:tabLst>
                <a:tab algn="l" pos="3122640"/>
                <a:tab algn="l" pos="6245280"/>
                <a:tab algn="l" pos="9367920"/>
              </a:tabLst>
            </a:pPr>
            <a:endParaRPr b="0" lang="en-US" sz="10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D33F-8CA3-48AD-974B-50FA46D8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560" y="1212840"/>
            <a:ext cx="19245240" cy="504504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ctr">
            <a:noAutofit/>
          </a:bodyPr>
          <a:p>
            <a:pPr indent="0" algn="ctr">
              <a:buNone/>
              <a:tabLst>
                <a:tab algn="l" pos="0"/>
                <a:tab algn="l" pos="3122640"/>
                <a:tab algn="l" pos="6245280"/>
                <a:tab algn="l" pos="936792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9560" y="7063920"/>
            <a:ext cx="19245240" cy="1998180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3122640"/>
                <a:tab algn="l" pos="6245280"/>
                <a:tab algn="l" pos="9367920"/>
              </a:tabLst>
            </a:pPr>
            <a:endParaRPr b="0" lang="en-US" sz="10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8097-5733-4A46-80F5-3985C16D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560" y="1212840"/>
            <a:ext cx="19245240" cy="504504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ctr">
            <a:noAutofit/>
          </a:bodyPr>
          <a:p>
            <a:pPr indent="0" algn="ctr">
              <a:buNone/>
              <a:tabLst>
                <a:tab algn="l" pos="0"/>
                <a:tab algn="l" pos="3122640"/>
                <a:tab algn="l" pos="6245280"/>
                <a:tab algn="l" pos="936792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9560" y="7063920"/>
            <a:ext cx="9391320" cy="1998180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3122640"/>
                <a:tab algn="l" pos="6245280"/>
                <a:tab algn="l" pos="9367920"/>
              </a:tabLst>
            </a:pPr>
            <a:endParaRPr b="0" lang="en-US" sz="10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0930680" y="7063920"/>
            <a:ext cx="9391320" cy="1998180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3122640"/>
                <a:tab algn="l" pos="6245280"/>
                <a:tab algn="l" pos="9367920"/>
              </a:tabLst>
            </a:pPr>
            <a:endParaRPr b="0" lang="en-US" sz="10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1005-45A5-4FCA-9F20-D6B3CB1B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560" y="1212840"/>
            <a:ext cx="19245240" cy="504504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ctr">
            <a:noAutofit/>
          </a:bodyPr>
          <a:p>
            <a:pPr indent="0" algn="ctr">
              <a:buNone/>
              <a:tabLst>
                <a:tab algn="l" pos="0"/>
                <a:tab algn="l" pos="3122640"/>
                <a:tab algn="l" pos="6245280"/>
                <a:tab algn="l" pos="936792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87AC-2351-4556-B6D0-CE0D463E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560" y="1212840"/>
            <a:ext cx="19245240" cy="2338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63"/>
              </a:spcBef>
              <a:tabLst>
                <a:tab algn="l" pos="3122640"/>
                <a:tab algn="l" pos="6245280"/>
                <a:tab algn="l" pos="9367920"/>
              </a:tabLst>
            </a:pPr>
            <a:endParaRPr b="0" lang="en-US" sz="10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D18D-6AB6-4FF6-8C55-ADF1EA3D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560" y="1212840"/>
            <a:ext cx="19245240" cy="504504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ctr">
            <a:noAutofit/>
          </a:bodyPr>
          <a:p>
            <a:pPr indent="0" algn="ctr">
              <a:buNone/>
              <a:tabLst>
                <a:tab algn="l" pos="0"/>
                <a:tab algn="l" pos="3122640"/>
                <a:tab algn="l" pos="6245280"/>
                <a:tab algn="l" pos="936792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9560" y="7063920"/>
            <a:ext cx="9391320" cy="953100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3122640"/>
                <a:tab algn="l" pos="6245280"/>
                <a:tab algn="l" pos="9367920"/>
              </a:tabLst>
            </a:pPr>
            <a:endParaRPr b="0" lang="en-US" sz="10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0930680" y="7063920"/>
            <a:ext cx="9391320" cy="1998180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3122640"/>
                <a:tab algn="l" pos="6245280"/>
                <a:tab algn="l" pos="9367920"/>
              </a:tabLst>
            </a:pPr>
            <a:endParaRPr b="0" lang="en-US" sz="10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9560" y="17500680"/>
            <a:ext cx="9391320" cy="953100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3122640"/>
                <a:tab algn="l" pos="6245280"/>
                <a:tab algn="l" pos="9367920"/>
              </a:tabLst>
            </a:pPr>
            <a:endParaRPr b="0" lang="en-US" sz="10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7E9B-4F2B-46E2-8488-FA2B8770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560" y="1212840"/>
            <a:ext cx="19245240" cy="504504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ctr">
            <a:noAutofit/>
          </a:bodyPr>
          <a:p>
            <a:pPr indent="0" algn="ctr">
              <a:buNone/>
              <a:tabLst>
                <a:tab algn="l" pos="0"/>
                <a:tab algn="l" pos="3122640"/>
                <a:tab algn="l" pos="6245280"/>
                <a:tab algn="l" pos="936792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9560" y="7063920"/>
            <a:ext cx="9391320" cy="1998180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3122640"/>
                <a:tab algn="l" pos="6245280"/>
                <a:tab algn="l" pos="9367920"/>
              </a:tabLst>
            </a:pPr>
            <a:endParaRPr b="0" lang="en-US" sz="10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0930680" y="7063920"/>
            <a:ext cx="9391320" cy="953100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3122640"/>
                <a:tab algn="l" pos="6245280"/>
                <a:tab algn="l" pos="9367920"/>
              </a:tabLst>
            </a:pPr>
            <a:endParaRPr b="0" lang="en-US" sz="10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930680" y="17500680"/>
            <a:ext cx="9391320" cy="953100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3122640"/>
                <a:tab algn="l" pos="6245280"/>
                <a:tab algn="l" pos="9367920"/>
              </a:tabLst>
            </a:pPr>
            <a:endParaRPr b="0" lang="en-US" sz="10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C0E4-CED9-4A18-BB7D-8D021FC3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560" y="1212840"/>
            <a:ext cx="19245240" cy="504504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ctr">
            <a:noAutofit/>
          </a:bodyPr>
          <a:p>
            <a:pPr indent="0" algn="ctr">
              <a:buNone/>
              <a:tabLst>
                <a:tab algn="l" pos="0"/>
                <a:tab algn="l" pos="3122640"/>
                <a:tab algn="l" pos="6245280"/>
                <a:tab algn="l" pos="936792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9560" y="7063920"/>
            <a:ext cx="9391320" cy="953100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3122640"/>
                <a:tab algn="l" pos="6245280"/>
                <a:tab algn="l" pos="9367920"/>
              </a:tabLst>
            </a:pPr>
            <a:endParaRPr b="0" lang="en-US" sz="10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0930680" y="7063920"/>
            <a:ext cx="9391320" cy="953100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3122640"/>
                <a:tab algn="l" pos="6245280"/>
                <a:tab algn="l" pos="9367920"/>
              </a:tabLst>
            </a:pPr>
            <a:endParaRPr b="0" lang="en-US" sz="10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9560" y="17500680"/>
            <a:ext cx="19245240" cy="953100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3122640"/>
                <a:tab algn="l" pos="6245280"/>
                <a:tab algn="l" pos="9367920"/>
              </a:tabLst>
            </a:pPr>
            <a:endParaRPr b="0" lang="en-US" sz="10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0FAF-D82E-4530-BBC1-91431FAA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560" y="1212840"/>
            <a:ext cx="19245240" cy="504504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ctr">
            <a:noAutofit/>
          </a:bodyPr>
          <a:p>
            <a:pPr indent="0" algn="ctr">
              <a:buNone/>
              <a:tabLst>
                <a:tab algn="l" pos="0"/>
                <a:tab algn="l" pos="3122640"/>
                <a:tab algn="l" pos="6245280"/>
                <a:tab algn="l" pos="936792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9560" y="7063920"/>
            <a:ext cx="19245240" cy="1998180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marL="1171440" indent="-1171440">
              <a:spcBef>
                <a:spcPts val="1763"/>
              </a:spcBef>
              <a:buClr>
                <a:srgbClr val="000000"/>
              </a:buClr>
              <a:buFont typeface="Arial"/>
              <a:buChar char="•"/>
              <a:tabLst>
                <a:tab algn="l" pos="3122640"/>
                <a:tab algn="l" pos="6245280"/>
                <a:tab algn="l" pos="936792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900" spc="-1" strike="noStrike">
              <a:solidFill>
                <a:srgbClr val="000000"/>
              </a:solidFill>
              <a:latin typeface="Arial"/>
            </a:endParaRPr>
          </a:p>
          <a:p>
            <a:pPr lvl="1" marL="2536920" indent="-974880">
              <a:spcBef>
                <a:spcPts val="1763"/>
              </a:spcBef>
              <a:buClr>
                <a:srgbClr val="000000"/>
              </a:buClr>
              <a:buFont typeface="Arial"/>
              <a:buChar char="–"/>
              <a:tabLst>
                <a:tab algn="l" pos="3122640"/>
                <a:tab algn="l" pos="6245280"/>
                <a:tab algn="l" pos="936792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900" spc="-1" strike="noStrike">
              <a:solidFill>
                <a:srgbClr val="000000"/>
              </a:solidFill>
              <a:latin typeface="Arial"/>
            </a:endParaRPr>
          </a:p>
          <a:p>
            <a:pPr lvl="2" marL="3903840" indent="-781200">
              <a:spcBef>
                <a:spcPts val="1763"/>
              </a:spcBef>
              <a:buClr>
                <a:srgbClr val="000000"/>
              </a:buClr>
              <a:buFont typeface="Arial"/>
              <a:buChar char="•"/>
              <a:tabLst>
                <a:tab algn="l" pos="3122640"/>
                <a:tab algn="l" pos="6245280"/>
                <a:tab algn="l" pos="936792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900" spc="-1" strike="noStrike">
              <a:solidFill>
                <a:srgbClr val="000000"/>
              </a:solidFill>
              <a:latin typeface="Arial"/>
            </a:endParaRPr>
          </a:p>
          <a:p>
            <a:pPr lvl="3" marL="5464080" indent="-780840">
              <a:spcBef>
                <a:spcPts val="1763"/>
              </a:spcBef>
              <a:buClr>
                <a:srgbClr val="000000"/>
              </a:buClr>
              <a:buFont typeface="Arial"/>
              <a:buChar char="–"/>
              <a:tabLst>
                <a:tab algn="l" pos="3122640"/>
                <a:tab algn="l" pos="6245280"/>
                <a:tab algn="l" pos="936792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900" spc="-1" strike="noStrike">
              <a:solidFill>
                <a:srgbClr val="000000"/>
              </a:solidFill>
              <a:latin typeface="Arial"/>
            </a:endParaRPr>
          </a:p>
          <a:p>
            <a:pPr lvl="4" marL="7026120" indent="-780840">
              <a:spcBef>
                <a:spcPts val="1763"/>
              </a:spcBef>
              <a:buClr>
                <a:srgbClr val="000000"/>
              </a:buClr>
              <a:buFont typeface="Arial"/>
              <a:buChar char="»"/>
              <a:tabLst>
                <a:tab algn="l" pos="3122640"/>
                <a:tab algn="l" pos="6245280"/>
                <a:tab algn="l" pos="936792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900" spc="-1" strike="noStrike">
              <a:solidFill>
                <a:srgbClr val="000000"/>
              </a:solidFill>
              <a:latin typeface="Arial"/>
            </a:endParaRPr>
          </a:p>
          <a:p>
            <a:pPr lvl="5" marL="7026120" indent="-780840">
              <a:spcBef>
                <a:spcPts val="1763"/>
              </a:spcBef>
              <a:buClr>
                <a:srgbClr val="000000"/>
              </a:buClr>
              <a:buFont typeface="Arial"/>
              <a:buChar char="»"/>
              <a:tabLst>
                <a:tab algn="l" pos="3122640"/>
                <a:tab algn="l" pos="6245280"/>
                <a:tab algn="l" pos="936792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900" spc="-1" strike="noStrike">
              <a:solidFill>
                <a:srgbClr val="000000"/>
              </a:solidFill>
              <a:latin typeface="Arial"/>
            </a:endParaRPr>
          </a:p>
          <a:p>
            <a:pPr lvl="6" marL="7026120" indent="-780840">
              <a:spcBef>
                <a:spcPts val="1763"/>
              </a:spcBef>
              <a:buClr>
                <a:srgbClr val="000000"/>
              </a:buClr>
              <a:buFont typeface="Arial"/>
              <a:buChar char="»"/>
              <a:tabLst>
                <a:tab algn="l" pos="3122640"/>
                <a:tab algn="l" pos="6245280"/>
                <a:tab algn="l" pos="936792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9920" y="27571320"/>
            <a:ext cx="4989600" cy="210348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306920" y="27571320"/>
            <a:ext cx="6770520" cy="210348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325560" y="27571320"/>
            <a:ext cx="4989600" cy="210348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Autofit/>
          </a:bodyPr>
          <a:lstStyle>
            <a:lvl1pPr indent="0" algn="r">
              <a:buNone/>
              <a:tabLst>
                <a:tab algn="l" pos="0"/>
                <a:tab algn="l" pos="4807080"/>
                <a:tab algn="l" pos="9613800"/>
              </a:tabLst>
              <a:defRPr b="0" lang="en-US" sz="4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807080"/>
                <a:tab algn="l" pos="9613800"/>
              </a:tabLst>
            </a:pPr>
            <a:fld id="{52508F5F-3C27-4C95-AE2A-C17E382C1D3C}" type="slidenum">
              <a:rPr b="0" lang="en-US" sz="4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052"/>
          <p:cNvSpPr/>
          <p:nvPr/>
        </p:nvSpPr>
        <p:spPr>
          <a:xfrm>
            <a:off x="0" y="1695600"/>
            <a:ext cx="21385080" cy="2781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807080"/>
                <a:tab algn="l" pos="9613800"/>
              </a:tabLst>
            </a:pP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053"/>
          <p:cNvSpPr/>
          <p:nvPr/>
        </p:nvSpPr>
        <p:spPr>
          <a:xfrm>
            <a:off x="938160" y="1789200"/>
            <a:ext cx="1950876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5280" rIns="305280" tIns="152640" bIns="152640" anchor="ctr">
            <a:noAutofit/>
          </a:bodyPr>
          <a:p>
            <a:pPr algn="ctr">
              <a:tabLst>
                <a:tab algn="l" pos="0"/>
                <a:tab algn="l" pos="4807080"/>
                <a:tab algn="l" pos="96138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sert Your Two Lin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ster Title Here</a:t>
            </a:r>
            <a:br>
              <a:rPr sz="4400"/>
            </a:br>
            <a:r>
              <a:rPr b="0" i="1" lang="en-US" sz="3100" spc="-1" strike="noStrike">
                <a:solidFill>
                  <a:srgbClr val="ffffff"/>
                </a:solidFill>
                <a:latin typeface="Arial"/>
              </a:rPr>
              <a:t>Your Name Goes Here </a:t>
            </a:r>
            <a:br>
              <a:rPr sz="3100"/>
            </a:br>
            <a:r>
              <a:rPr b="0" i="1" lang="en-US" sz="3100" spc="-1" strike="noStrike">
                <a:solidFill>
                  <a:srgbClr val="ffffff"/>
                </a:solidFill>
                <a:latin typeface="Arial"/>
              </a:rPr>
              <a:t>Your Institution Name Can Go He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2059"/>
          <p:cNvSpPr/>
          <p:nvPr/>
        </p:nvSpPr>
        <p:spPr>
          <a:xfrm>
            <a:off x="7748640" y="5418000"/>
            <a:ext cx="5886360" cy="9026640"/>
          </a:xfrm>
          <a:prstGeom prst="rect">
            <a:avLst/>
          </a:prstGeom>
          <a:solidFill>
            <a:srgbClr val="c4cd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0" rIns="234000" tIns="234000" bIns="234000" anchor="t">
            <a:noAutofit/>
          </a:bodyPr>
          <a:p>
            <a:pPr marL="380880" indent="-380880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3366"/>
                </a:solidFill>
                <a:latin typeface="Arial"/>
              </a:rPr>
              <a:t>Method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437"/>
              </a:spcBef>
              <a:buClr>
                <a:srgbClr val="003366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Morbi id ligula ac ligula adipiscing iaculis. Nulla risus lorem, molestie ac, scelerisque quis, gravida eleifend, wisi. Proin sapien ant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437"/>
              </a:spcBef>
              <a:buClr>
                <a:srgbClr val="003366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Mnibh, ultrices facilisis, dignissim at, mollis ut, diam. Nulla facilisi. Cum sociis natoque penatibus et magnis dis parturien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437"/>
              </a:spcBef>
              <a:buClr>
                <a:srgbClr val="003366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Montes, nascetur ridiculus mus. Morbi tristique erat at ligula. Curabitur in metus. Donec consequat. Quisque port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078"/>
          <p:cNvSpPr/>
          <p:nvPr/>
        </p:nvSpPr>
        <p:spPr>
          <a:xfrm>
            <a:off x="906480" y="24364800"/>
            <a:ext cx="9699480" cy="4187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0" rIns="234000" tIns="234000" bIns="234000" anchor="t">
            <a:noAutofit/>
          </a:bodyPr>
          <a:p>
            <a:pPr marL="380880" indent="-380880">
              <a:lnSpc>
                <a:spcPct val="11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3366"/>
                </a:solidFill>
                <a:latin typeface="Arial"/>
              </a:rPr>
              <a:t>Literature Cit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Faucibus sit amet, mollis eu, molestie a, erat. Donec magn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Montes, nascetur ridiculus mus. Morbi tristique erat at ligula. Curabitur in metus. Donec consequat. Quisque port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Nibh, ultrices facilisis, dignissim at, mollis ut, diam. Nulla facilisi. Cum sociis natoque penatibus et magnis dis parturient Curabitur in metus. Donec consequat. Quisque port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2102"/>
          <p:cNvSpPr/>
          <p:nvPr/>
        </p:nvSpPr>
        <p:spPr>
          <a:xfrm>
            <a:off x="14819400" y="19392840"/>
            <a:ext cx="5886360" cy="4311720"/>
          </a:xfrm>
          <a:prstGeom prst="rect">
            <a:avLst/>
          </a:prstGeom>
          <a:solidFill>
            <a:srgbClr val="c4cd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0" rIns="234000" tIns="234000" bIns="234000" anchor="t">
            <a:noAutofit/>
          </a:bodyPr>
          <a:p>
            <a:pPr marL="380880" indent="-380880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3366"/>
                </a:solidFill>
                <a:latin typeface="Arial"/>
              </a:rPr>
              <a:t>Expected Resul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Montes, nascetur ridiculus mus. Morbi tristique erat at ligula. Curabitur in metus. Donec consequat. Quisque por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Curabitur in metus. Donec consequat. Quisque port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Morbi tristique erat at ligula. Curabitur in metu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2103"/>
          <p:cNvSpPr/>
          <p:nvPr/>
        </p:nvSpPr>
        <p:spPr>
          <a:xfrm>
            <a:off x="11318760" y="24364800"/>
            <a:ext cx="9387000" cy="4186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0" rIns="234000" tIns="234000" bIns="234000" anchor="t">
            <a:noAutofit/>
          </a:bodyPr>
          <a:p>
            <a:pPr marL="380880" indent="-380880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3366"/>
                </a:solidFill>
                <a:latin typeface="Arial"/>
              </a:rPr>
              <a:t>Disclos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300" spc="-1" strike="noStrike">
                <a:solidFill>
                  <a:srgbClr val="003366"/>
                </a:solidFill>
                <a:latin typeface="Arial"/>
              </a:rPr>
              <a:t>Authors of this presentation have the following to disclose concerning possible financial or personal relationships with commercial entities that may have a direct or indirect interest in the subject matter of this presentation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300" spc="-1" strike="noStrike">
                <a:solidFill>
                  <a:srgbClr val="003366"/>
                </a:solidFill>
                <a:latin typeface="Arial"/>
              </a:rPr>
              <a:t>First Name:  More text or position he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300" spc="-1" strike="noStrike">
                <a:solidFill>
                  <a:srgbClr val="003366"/>
                </a:solidFill>
                <a:latin typeface="Arial"/>
              </a:rPr>
              <a:t>First Name, Last:  More information goes he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300" spc="-1" strike="noStrike">
                <a:solidFill>
                  <a:srgbClr val="003366"/>
                </a:solidFill>
                <a:latin typeface="Arial"/>
              </a:rPr>
              <a:t>Another person here:  Their information he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2106"/>
          <p:cNvSpPr/>
          <p:nvPr/>
        </p:nvSpPr>
        <p:spPr>
          <a:xfrm>
            <a:off x="8520120" y="28779840"/>
            <a:ext cx="12185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Arial"/>
              </a:rPr>
              <a:t>Other fine print regarding the conference or the post can be placed here, delete if it is not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2110"/>
          <p:cNvSpPr/>
          <p:nvPr/>
        </p:nvSpPr>
        <p:spPr>
          <a:xfrm>
            <a:off x="7748640" y="15114600"/>
            <a:ext cx="5886360" cy="8589960"/>
          </a:xfrm>
          <a:prstGeom prst="rect">
            <a:avLst/>
          </a:prstGeom>
          <a:solidFill>
            <a:srgbClr val="c4cd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0" rIns="234000" tIns="234000" bIns="234000" anchor="t">
            <a:noAutofit/>
          </a:bodyPr>
          <a:p>
            <a:pPr marL="380880" indent="-380880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3366"/>
                </a:solidFill>
                <a:latin typeface="Arial"/>
              </a:rPr>
              <a:t>Too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084"/>
          <p:cNvSpPr/>
          <p:nvPr/>
        </p:nvSpPr>
        <p:spPr>
          <a:xfrm>
            <a:off x="7794720" y="22560120"/>
            <a:ext cx="5460840" cy="44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3366"/>
                </a:solidFill>
                <a:latin typeface="Arial"/>
              </a:rPr>
              <a:t>Nulla facilisi. Cum sociis natoque</a:t>
            </a: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113"/>
          <p:cNvSpPr/>
          <p:nvPr/>
        </p:nvSpPr>
        <p:spPr>
          <a:xfrm>
            <a:off x="14819400" y="5418000"/>
            <a:ext cx="5884920" cy="13316040"/>
          </a:xfrm>
          <a:prstGeom prst="rect">
            <a:avLst/>
          </a:prstGeom>
          <a:solidFill>
            <a:srgbClr val="c4cd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Doctors Technician Training Modu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Natoque penatibus er Nulla facilisi Check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Morbi id ligul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Magn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Cam sociia natoq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Penatibus et magnis d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Montes, nascetur idio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Curabitur in metyu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Parturient disnissim Checklist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Proin spits sceleria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Morbi setano malac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Magna mollis edu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Independent Study Modu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Partueint curabitu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Quidis porta soop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Lingula consecutat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114"/>
          <p:cNvSpPr/>
          <p:nvPr/>
        </p:nvSpPr>
        <p:spPr>
          <a:xfrm>
            <a:off x="14819400" y="16583040"/>
            <a:ext cx="588636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0" rIns="234000" tIns="234000" bIns="234000" anchor="t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Montes, nascetur ridiculus mus. Morbi tristique erat at ligula. Curabitur in metus. Donec consequat. Quisque por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2119"/>
          <p:cNvSpPr/>
          <p:nvPr/>
        </p:nvSpPr>
        <p:spPr>
          <a:xfrm>
            <a:off x="879480" y="5518080"/>
            <a:ext cx="5840280" cy="8652600"/>
          </a:xfrm>
          <a:prstGeom prst="rect">
            <a:avLst/>
          </a:prstGeom>
          <a:solidFill>
            <a:srgbClr val="c4cd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1" lang="en-GB" sz="3100" spc="-1" strike="noStrike">
                <a:solidFill>
                  <a:srgbClr val="003366"/>
                </a:solidFill>
                <a:latin typeface="Arial"/>
              </a:rPr>
              <a:t>Introdu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Lorem ipsum dolor sit amet, consectetuer adipiscing elit. Nam in diam consectetuer odio blandit elementum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Morbi id ligula ac ligula adipiscing iaculis. Nulla risus lorem, molestie ac, scelerisque quis, gravida eleifend, wisi. Proin sapien ant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faucibus sit amet, mollis eu, molestie a, erat. Donec magn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nibh, ultrices facilisis, dignissim at, mollis ut, diam. Nulla facilisi. Cum sociis natoque penatibus et magnis dis parturien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montes, nascetur ridiculus mus. Morbi tristique erat at ligula. Curabitur in metus. Donec consequat. Quisque port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2121"/>
          <p:cNvSpPr/>
          <p:nvPr/>
        </p:nvSpPr>
        <p:spPr>
          <a:xfrm>
            <a:off x="847800" y="14806440"/>
            <a:ext cx="5842080" cy="8652600"/>
          </a:xfrm>
          <a:prstGeom prst="rect">
            <a:avLst/>
          </a:prstGeom>
          <a:solidFill>
            <a:srgbClr val="c4cd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1" lang="en-GB" sz="3100" spc="-1" strike="noStrike">
                <a:solidFill>
                  <a:srgbClr val="003366"/>
                </a:solidFill>
                <a:latin typeface="Arial"/>
              </a:rPr>
              <a:t>Purpos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Lorem ipsum dolor sit amet, consectetuer adipiscing elit. Nam in diam consectetuer odio blandit elementum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Morbi id ligula ac ligula adipiscing iaculis. Nulla risus lorem, molestie ac, scelerisque quis, gravida eleifend, wisi. Proin sapien ant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faucibus sit amet, mollis eu, molestie a, erat. Donec magn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nibh, ultrices facilisis, dignissim at, mollis ut, diam. Nulla facilisi. Cum sociis natoque penatibus et magnis dis parturien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montes, nascetur ridiculus mus. Morbi tristique erat at ligula. Curabitur in metus. Donec consequat. Quisque port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对象 2122" descr=""/>
          <p:cNvPicPr/>
          <p:nvPr/>
        </p:nvPicPr>
        <p:blipFill>
          <a:blip r:embed="rId2"/>
          <a:stretch/>
        </p:blipFill>
        <p:spPr>
          <a:xfrm>
            <a:off x="8393040" y="11558520"/>
            <a:ext cx="4378320" cy="2408400"/>
          </a:xfrm>
          <a:prstGeom prst="rect">
            <a:avLst/>
          </a:prstGeom>
          <a:ln w="0">
            <a:noFill/>
          </a:ln>
        </p:spPr>
      </p:pic>
      <p:pic>
        <p:nvPicPr>
          <p:cNvPr id="55" name="对象 2123" descr=""/>
          <p:cNvPicPr/>
          <p:nvPr/>
        </p:nvPicPr>
        <p:blipFill>
          <a:blip r:embed="rId3"/>
          <a:stretch/>
        </p:blipFill>
        <p:spPr>
          <a:xfrm>
            <a:off x="15183000" y="13503240"/>
            <a:ext cx="5119560" cy="2728800"/>
          </a:xfrm>
          <a:prstGeom prst="rect">
            <a:avLst/>
          </a:prstGeom>
          <a:ln w="0">
            <a:noFill/>
          </a:ln>
        </p:spPr>
      </p:pic>
      <p:sp>
        <p:nvSpPr>
          <p:cNvPr id="56" name="矩形 2126"/>
          <p:cNvSpPr/>
          <p:nvPr/>
        </p:nvSpPr>
        <p:spPr>
          <a:xfrm>
            <a:off x="8042400" y="16068600"/>
            <a:ext cx="2555640" cy="1490760"/>
          </a:xfrm>
          <a:prstGeom prst="rect">
            <a:avLst/>
          </a:prstGeom>
          <a:solidFill>
            <a:srgbClr val="c5c9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127"/>
          <p:cNvSpPr/>
          <p:nvPr/>
        </p:nvSpPr>
        <p:spPr>
          <a:xfrm>
            <a:off x="10734840" y="16070400"/>
            <a:ext cx="2555640" cy="1488960"/>
          </a:xfrm>
          <a:prstGeom prst="rect">
            <a:avLst/>
          </a:prstGeom>
          <a:solidFill>
            <a:srgbClr val="c5c9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134"/>
          <p:cNvSpPr/>
          <p:nvPr/>
        </p:nvSpPr>
        <p:spPr>
          <a:xfrm>
            <a:off x="8056440" y="17676720"/>
            <a:ext cx="2556000" cy="1489320"/>
          </a:xfrm>
          <a:prstGeom prst="rect">
            <a:avLst/>
          </a:prstGeom>
          <a:solidFill>
            <a:srgbClr val="c5c9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135"/>
          <p:cNvSpPr/>
          <p:nvPr/>
        </p:nvSpPr>
        <p:spPr>
          <a:xfrm>
            <a:off x="10747440" y="17676720"/>
            <a:ext cx="2555640" cy="1490760"/>
          </a:xfrm>
          <a:prstGeom prst="rect">
            <a:avLst/>
          </a:prstGeom>
          <a:solidFill>
            <a:srgbClr val="c5c9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136"/>
          <p:cNvSpPr/>
          <p:nvPr/>
        </p:nvSpPr>
        <p:spPr>
          <a:xfrm>
            <a:off x="8042400" y="19284840"/>
            <a:ext cx="2555640" cy="1489320"/>
          </a:xfrm>
          <a:prstGeom prst="rect">
            <a:avLst/>
          </a:prstGeom>
          <a:solidFill>
            <a:srgbClr val="c5c9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137"/>
          <p:cNvSpPr/>
          <p:nvPr/>
        </p:nvSpPr>
        <p:spPr>
          <a:xfrm>
            <a:off x="10733040" y="19284840"/>
            <a:ext cx="2556000" cy="1490760"/>
          </a:xfrm>
          <a:prstGeom prst="rect">
            <a:avLst/>
          </a:prstGeom>
          <a:solidFill>
            <a:srgbClr val="c5c9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138"/>
          <p:cNvSpPr/>
          <p:nvPr/>
        </p:nvSpPr>
        <p:spPr>
          <a:xfrm>
            <a:off x="8045280" y="20891520"/>
            <a:ext cx="2556000" cy="1490760"/>
          </a:xfrm>
          <a:prstGeom prst="rect">
            <a:avLst/>
          </a:prstGeom>
          <a:solidFill>
            <a:srgbClr val="c5c9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139"/>
          <p:cNvSpPr/>
          <p:nvPr/>
        </p:nvSpPr>
        <p:spPr>
          <a:xfrm>
            <a:off x="10737720" y="20892960"/>
            <a:ext cx="2556000" cy="1490760"/>
          </a:xfrm>
          <a:prstGeom prst="rect">
            <a:avLst/>
          </a:prstGeom>
          <a:solidFill>
            <a:srgbClr val="c5c9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094"/>
          <p:cNvSpPr/>
          <p:nvPr/>
        </p:nvSpPr>
        <p:spPr>
          <a:xfrm>
            <a:off x="12087360" y="2217744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6983"/>
                </a:solidFill>
                <a:latin typeface="Arial"/>
              </a:rPr>
              <a:t>Picture 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095"/>
          <p:cNvSpPr/>
          <p:nvPr/>
        </p:nvSpPr>
        <p:spPr>
          <a:xfrm>
            <a:off x="12131640" y="2053260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6983"/>
                </a:solidFill>
                <a:latin typeface="Arial"/>
              </a:rPr>
              <a:t>Picture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098"/>
          <p:cNvSpPr/>
          <p:nvPr/>
        </p:nvSpPr>
        <p:spPr>
          <a:xfrm>
            <a:off x="12131640" y="1890720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6983"/>
                </a:solidFill>
                <a:latin typeface="Arial"/>
              </a:rPr>
              <a:t>Picture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100"/>
          <p:cNvSpPr/>
          <p:nvPr/>
        </p:nvSpPr>
        <p:spPr>
          <a:xfrm>
            <a:off x="12139560" y="1734516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6983"/>
                </a:solidFill>
                <a:latin typeface="Arial"/>
              </a:rPr>
              <a:t>Pictur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093"/>
          <p:cNvSpPr/>
          <p:nvPr/>
        </p:nvSpPr>
        <p:spPr>
          <a:xfrm>
            <a:off x="9447120" y="2214720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6983"/>
                </a:solidFill>
                <a:latin typeface="Arial"/>
              </a:rPr>
              <a:t>Pictur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2096"/>
          <p:cNvSpPr/>
          <p:nvPr/>
        </p:nvSpPr>
        <p:spPr>
          <a:xfrm>
            <a:off x="9433080" y="2052468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6983"/>
                </a:solidFill>
                <a:latin typeface="Arial"/>
              </a:rPr>
              <a:t>Pictur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2097"/>
          <p:cNvSpPr/>
          <p:nvPr/>
        </p:nvSpPr>
        <p:spPr>
          <a:xfrm>
            <a:off x="9453600" y="1890864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6983"/>
                </a:solidFill>
                <a:latin typeface="Arial"/>
              </a:rPr>
              <a:t>Pictur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099"/>
          <p:cNvSpPr/>
          <p:nvPr/>
        </p:nvSpPr>
        <p:spPr>
          <a:xfrm>
            <a:off x="9468000" y="1731168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6983"/>
                </a:solidFill>
                <a:latin typeface="Arial"/>
              </a:rPr>
              <a:t>Pictur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9T19:24:32Z</dcterms:created>
  <dc:creator>Amanda Russel</dc:creator>
  <dc:description/>
  <dc:language>en-US</dc:language>
  <cp:lastModifiedBy>Candid.  礁石</cp:lastModifiedBy>
  <dcterms:modified xsi:type="dcterms:W3CDTF">2023-12-25T03:58:18Z</dcterms:modified>
  <cp:revision>1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C458131AD0984DF3BC2282626F0E1A1E_12</vt:lpwstr>
  </property>
  <property fmtid="{D5CDD505-2E9C-101B-9397-08002B2CF9AE}" pid="3" name="KSOProductBuildVer">
    <vt:lpwstr>2052-12.1.0.15712</vt:lpwstr>
  </property>
</Properties>
</file>