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302752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88F-24AD-409F-A0DB-D368D9CD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8120" y="1212840"/>
            <a:ext cx="19246680" cy="5045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2851200"/>
                <a:tab algn="l" pos="5702400"/>
                <a:tab algn="l" pos="85536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7063920"/>
            <a:ext cx="1924668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17500680"/>
            <a:ext cx="1924668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09D-4D2F-4102-89D7-12E760BC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8120" y="1212840"/>
            <a:ext cx="19246680" cy="5045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2851200"/>
                <a:tab algn="l" pos="5702400"/>
                <a:tab algn="l" pos="85536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7063920"/>
            <a:ext cx="9392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0320" y="7063920"/>
            <a:ext cx="9392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17500680"/>
            <a:ext cx="9392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0320" y="17500680"/>
            <a:ext cx="9392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BE7-B4E3-4652-BEB2-A2605DD0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8120" y="1212840"/>
            <a:ext cx="19246680" cy="5045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2851200"/>
                <a:tab algn="l" pos="5702400"/>
                <a:tab algn="l" pos="85536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7063920"/>
            <a:ext cx="6197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5480" y="7063920"/>
            <a:ext cx="6197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2840" y="7063920"/>
            <a:ext cx="6197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17500680"/>
            <a:ext cx="6197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5480" y="17500680"/>
            <a:ext cx="6197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2840" y="17500680"/>
            <a:ext cx="6197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FE2-B2F8-4368-BBDD-5BEFA3C1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8120" y="1212840"/>
            <a:ext cx="19246680" cy="5045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2851200"/>
                <a:tab algn="l" pos="5702400"/>
                <a:tab algn="l" pos="85536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7063920"/>
            <a:ext cx="19246680" cy="199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759-34E0-40A7-95C7-E666220D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8120" y="1212840"/>
            <a:ext cx="19246680" cy="5045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2851200"/>
                <a:tab algn="l" pos="5702400"/>
                <a:tab algn="l" pos="85536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7063920"/>
            <a:ext cx="19246680" cy="199818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3AF-CD2E-4A6B-B083-6B25C0D9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8120" y="1212840"/>
            <a:ext cx="19246680" cy="5045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2851200"/>
                <a:tab algn="l" pos="5702400"/>
                <a:tab algn="l" pos="85536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7063920"/>
            <a:ext cx="9392040" cy="199818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0320" y="7063920"/>
            <a:ext cx="9392040" cy="199818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9D9-9A27-4B60-8BB6-FE42D2DE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8120" y="1212840"/>
            <a:ext cx="19246680" cy="5045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2851200"/>
                <a:tab algn="l" pos="5702400"/>
                <a:tab algn="l" pos="85536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8C7-D0A3-4C67-9815-47D24DA1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8120" y="1212840"/>
            <a:ext cx="19246680" cy="2338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85B-C689-4A41-A1C7-DA94EB09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8120" y="1212840"/>
            <a:ext cx="19246680" cy="5045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2851200"/>
                <a:tab algn="l" pos="5702400"/>
                <a:tab algn="l" pos="85536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7063920"/>
            <a:ext cx="9392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0320" y="7063920"/>
            <a:ext cx="9392040" cy="199818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17500680"/>
            <a:ext cx="9392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E99-2046-4C1A-81C5-64118FE3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8120" y="1212840"/>
            <a:ext cx="19246680" cy="5045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2851200"/>
                <a:tab algn="l" pos="5702400"/>
                <a:tab algn="l" pos="85536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7063920"/>
            <a:ext cx="9392040" cy="199818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0320" y="7063920"/>
            <a:ext cx="9392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0320" y="17500680"/>
            <a:ext cx="9392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E56-CB40-426C-B511-E7C500A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8120" y="1212840"/>
            <a:ext cx="19246680" cy="5045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2851200"/>
                <a:tab algn="l" pos="5702400"/>
                <a:tab algn="l" pos="85536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7063920"/>
            <a:ext cx="9392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0320" y="7063920"/>
            <a:ext cx="939204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17500680"/>
            <a:ext cx="19246680" cy="9531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2851200"/>
                <a:tab algn="l" pos="5702400"/>
                <a:tab algn="l" pos="85536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D8D-CAEA-4502-BF20-E6AA1C51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120" y="1212840"/>
            <a:ext cx="19246680" cy="5045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2851200"/>
                <a:tab algn="l" pos="5702400"/>
                <a:tab algn="l" pos="85536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8120" y="7063920"/>
            <a:ext cx="19246680" cy="199818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068480" indent="-10684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2851200"/>
                <a:tab algn="l" pos="5702400"/>
                <a:tab algn="l" pos="85536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lvl="1" marL="2317680" indent="-8920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2851200"/>
                <a:tab algn="l" pos="5702400"/>
                <a:tab algn="l" pos="85536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lvl="2" marL="3564000" indent="-71280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2851200"/>
                <a:tab algn="l" pos="5702400"/>
                <a:tab algn="l" pos="85536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lvl="3" marL="4991040" indent="-7142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2851200"/>
                <a:tab algn="l" pos="5702400"/>
                <a:tab algn="l" pos="85536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lvl="4" marL="6415200" indent="-71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2851200"/>
                <a:tab algn="l" pos="5702400"/>
                <a:tab algn="l" pos="85536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lvl="5" marL="6415200" indent="-71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2851200"/>
                <a:tab algn="l" pos="5702400"/>
                <a:tab algn="l" pos="85536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lvl="6" marL="6415200" indent="-71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2851200"/>
                <a:tab algn="l" pos="5702400"/>
                <a:tab algn="l" pos="85536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8480" y="27571320"/>
            <a:ext cx="4991040" cy="2102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5480" y="27571320"/>
            <a:ext cx="6771960" cy="2102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4120" y="27571320"/>
            <a:ext cx="4991040" cy="2102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89480"/>
                <a:tab algn="l" pos="8778960"/>
              </a:tabLst>
              <a:defRPr b="0" lang="en-US" sz="4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389480"/>
                <a:tab algn="l" pos="8778960"/>
              </a:tabLst>
            </a:pPr>
            <a:fld id="{2132D2B1-2432-4355-ACFE-C81EBFC59338}" type="slidenum">
              <a:rPr b="0" lang="en-US" sz="4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051"/>
          <p:cNvSpPr/>
          <p:nvPr/>
        </p:nvSpPr>
        <p:spPr>
          <a:xfrm>
            <a:off x="0" y="355680"/>
            <a:ext cx="21377160" cy="3008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Your Poster Title Here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Your name he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Your institution name he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052"/>
          <p:cNvSpPr/>
          <p:nvPr/>
        </p:nvSpPr>
        <p:spPr>
          <a:xfrm>
            <a:off x="0" y="28522440"/>
            <a:ext cx="21377160" cy="871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057"/>
          <p:cNvSpPr/>
          <p:nvPr/>
        </p:nvSpPr>
        <p:spPr>
          <a:xfrm>
            <a:off x="593640" y="4287960"/>
            <a:ext cx="9799560" cy="712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058"/>
          <p:cNvSpPr/>
          <p:nvPr/>
        </p:nvSpPr>
        <p:spPr>
          <a:xfrm>
            <a:off x="10988640" y="4287960"/>
            <a:ext cx="9799560" cy="712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059"/>
          <p:cNvSpPr/>
          <p:nvPr/>
        </p:nvSpPr>
        <p:spPr>
          <a:xfrm>
            <a:off x="593640" y="11890440"/>
            <a:ext cx="9799560" cy="712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060"/>
          <p:cNvSpPr/>
          <p:nvPr/>
        </p:nvSpPr>
        <p:spPr>
          <a:xfrm>
            <a:off x="10988640" y="21315240"/>
            <a:ext cx="9799560" cy="712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061"/>
          <p:cNvSpPr/>
          <p:nvPr/>
        </p:nvSpPr>
        <p:spPr>
          <a:xfrm>
            <a:off x="10988640" y="10623600"/>
            <a:ext cx="9799560" cy="712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062"/>
          <p:cNvSpPr/>
          <p:nvPr/>
        </p:nvSpPr>
        <p:spPr>
          <a:xfrm>
            <a:off x="593640" y="18384840"/>
            <a:ext cx="9799560" cy="712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066"/>
          <p:cNvSpPr/>
          <p:nvPr/>
        </p:nvSpPr>
        <p:spPr>
          <a:xfrm>
            <a:off x="792000" y="5318280"/>
            <a:ext cx="920772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ert your own text 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067"/>
          <p:cNvSpPr/>
          <p:nvPr/>
        </p:nvSpPr>
        <p:spPr>
          <a:xfrm>
            <a:off x="792000" y="12920760"/>
            <a:ext cx="9306000" cy="53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ert your own text here. You can change your font size to fit your own dat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068"/>
          <p:cNvSpPr/>
          <p:nvPr/>
        </p:nvSpPr>
        <p:spPr>
          <a:xfrm>
            <a:off x="890640" y="19415160"/>
            <a:ext cx="9009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ert your text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069"/>
          <p:cNvSpPr/>
          <p:nvPr/>
        </p:nvSpPr>
        <p:spPr>
          <a:xfrm>
            <a:off x="11187000" y="5238720"/>
            <a:ext cx="9404640" cy="55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text goes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071"/>
          <p:cNvSpPr/>
          <p:nvPr/>
        </p:nvSpPr>
        <p:spPr>
          <a:xfrm>
            <a:off x="11228400" y="11653920"/>
            <a:ext cx="9306000" cy="70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text goes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072"/>
          <p:cNvSpPr/>
          <p:nvPr/>
        </p:nvSpPr>
        <p:spPr>
          <a:xfrm>
            <a:off x="11088720" y="22345560"/>
            <a:ext cx="960264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references go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0:30:49Z</dcterms:created>
  <dc:creator>Cindy Kranz</dc:creator>
  <dc:description/>
  <dc:language>en-US</dc:language>
  <cp:lastModifiedBy>Candid.  礁石</cp:lastModifiedBy>
  <dcterms:modified xsi:type="dcterms:W3CDTF">2023-12-25T03:58:15Z</dcterms:modified>
  <cp:revision>8</cp:revision>
  <dc:subject/>
  <dc:title>Style A 36 by 48 t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BF5F05562E743D99DD396A91950D0C0_12</vt:lpwstr>
  </property>
  <property fmtid="{D5CDD505-2E9C-101B-9397-08002B2CF9AE}" pid="3" name="KSOProductBuildVer">
    <vt:lpwstr>2052-12.1.0.15712</vt:lpwstr>
  </property>
</Properties>
</file>