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404050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DDFE-D24F-4242-B2ED-382724736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F1D6-EA51-4B45-BA13-50A497BE8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15EE-A814-41C4-B102-E8537DA0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9886-9FDE-48C1-A63B-FDE3C336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4B5-D5C2-46BB-929D-01844E5C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478-D237-455B-8423-1809F830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76"/>
              </a:spcBef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D16-B446-4175-BEEB-F94D5FAE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8F3-61A1-465B-B4A8-01196A08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00D-39E9-46C7-BB45-37D000E9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94C-E8ED-4113-824A-C71F480A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1730520"/>
            <a:ext cx="29162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76"/>
              </a:spcBef>
              <a:tabLst>
                <a:tab algn="l" pos="0"/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37D-48BD-4C0D-BD1C-79DE7222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66D-B9E4-4780-BB34-2B45D834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330A-1730-414D-B319-163DC76F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D21-31E4-4BBC-A622-16A919FF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marL="1620720" indent="-162072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21080"/>
                <a:tab algn="l" pos="864252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  <a:p>
            <a:pPr lvl="1" marL="3510000" indent="-134928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21080"/>
                <a:tab algn="l" pos="864252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  <a:p>
            <a:pPr lvl="2" marL="5400720" indent="-107964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21080"/>
                <a:tab algn="l" pos="864252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  <a:p>
            <a:pPr lvl="3" marL="7561440" indent="-108144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21080"/>
                <a:tab algn="l" pos="864252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  <a:p>
            <a:pPr lvl="4" marL="9721800" indent="-108108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21080"/>
                <a:tab algn="l" pos="864252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  <a:p>
            <a:pPr lvl="5" marL="9721800" indent="-108108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21080"/>
                <a:tab algn="l" pos="864252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  <a:p>
            <a:pPr lvl="6" marL="9721800" indent="-108108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21080"/>
                <a:tab algn="l" pos="864252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360" y="39344760"/>
            <a:ext cx="7559640" cy="30002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9344760"/>
            <a:ext cx="10261800" cy="30002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39344760"/>
            <a:ext cx="7559640" cy="30002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1B4E-C639-45A1-A071-F3E56610354C}" type="slidenum">
              <a:rPr b="0" lang="en-US" sz="6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504720" y="495360"/>
            <a:ext cx="31394520" cy="42062400"/>
          </a:xfrm>
          <a:custGeom>
            <a:avLst/>
            <a:gdLst>
              <a:gd name="textAreaLeft" fmla="*/ 671760 w 31394520"/>
              <a:gd name="textAreaRight" fmla="*/ 30722760 w 31394520"/>
              <a:gd name="textAreaTop" fmla="*/ 671760 h 42062400"/>
              <a:gd name="textAreaBottom" fmla="*/ 41390640 h 42062400"/>
            </a:gdLst>
            <a:ahLst/>
            <a:rect l="textAreaLeft" t="textAreaTop" r="textAreaRight" b="textAreaBottom"/>
            <a:pathLst>
              <a:path w="21600" h="28940">
                <a:moveTo>
                  <a:pt x="1578" y="0"/>
                </a:moveTo>
                <a:arcTo wR="1578" hR="1578" stAng="16200000" swAng="-5400000"/>
                <a:lnTo>
                  <a:pt x="0" y="27362"/>
                </a:lnTo>
                <a:arcTo wR="1578" hR="1578" stAng="10800000" swAng="-5400000"/>
                <a:lnTo>
                  <a:pt x="20022" y="28940"/>
                </a:lnTo>
                <a:arcTo wR="1578" hR="1578" stAng="5400000" swAng="-5400000"/>
                <a:lnTo>
                  <a:pt x="21600" y="1578"/>
                </a:lnTo>
                <a:arcTo wR="1578" hR="1578" stAng="0" swAng="-5400000"/>
                <a:close/>
              </a:path>
            </a:pathLst>
          </a:cu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772160" y="1104840"/>
            <a:ext cx="2255508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000" rIns="135000" tIns="67320" bIns="67320" anchor="ctr">
            <a:noAutofit/>
          </a:bodyPr>
          <a:p>
            <a:pPr algn="ctr">
              <a:tabLst>
                <a:tab algn="l" pos="0"/>
                <a:tab algn="l" pos="4627440"/>
                <a:tab algn="l" pos="92552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627440"/>
                <a:tab algn="l" pos="925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XX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1,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*, XX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, XX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4627440"/>
                <a:tab algn="l" pos="925524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XXX, XXX University, XXX, China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627440"/>
                <a:tab algn="l" pos="925524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XXX, XXX University, XXX, China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627440"/>
                <a:tab algn="l" pos="925524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XXX, XXX University, XXX, China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627440"/>
                <a:tab algn="l" pos="925524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xxxx@xxx.edu.c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04720" y="8294760"/>
            <a:ext cx="156211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X xxx, …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04720" y="6832440"/>
            <a:ext cx="15468840" cy="1270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r>
              <a:rPr b="1" lang="es-ES_tradnl" sz="55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33320" y="37985760"/>
            <a:ext cx="20726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studied …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04720" y="36474480"/>
            <a:ext cx="20650320" cy="1270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r>
              <a:rPr b="1" lang="es-ES_tradnl" sz="5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55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21993120" y="37985760"/>
            <a:ext cx="946800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s work was supported by the National Natural Science Foundation of China …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107600" y="36466560"/>
            <a:ext cx="9791640" cy="1270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r>
              <a:rPr b="1" lang="es-ES_tradnl" sz="5500" spc="-1" strike="noStrike">
                <a:solidFill>
                  <a:srgbClr val="ffffff"/>
                </a:solidFill>
                <a:latin typeface="Arial"/>
              </a:rPr>
              <a:t>FUNDING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04720" y="19481760"/>
            <a:ext cx="31432680" cy="1270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es-ES_tradnl" sz="55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0" y="0"/>
            <a:ext cx="32403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0" y="0"/>
            <a:ext cx="32403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6427520" y="6832440"/>
            <a:ext cx="15471720" cy="1270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es-ES_tradnl" sz="55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0" y="0"/>
            <a:ext cx="3240396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1114560" y="32712120"/>
            <a:ext cx="14782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 (a) Xxx xxx,… (b) …, …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17040240" y="32678640"/>
            <a:ext cx="14020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21080"/>
                <a:tab algn="l" pos="8642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3. (a) Xxx xxx, … (b) …, …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9"/>
          <p:cNvSpPr/>
          <p:nvPr/>
        </p:nvSpPr>
        <p:spPr>
          <a:xfrm>
            <a:off x="16430760" y="15192360"/>
            <a:ext cx="15239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1. (a) Xxx xxx, … (b) Xxx xxx, …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3"/>
          <p:cNvSpPr txBox="1"/>
          <p:nvPr/>
        </p:nvSpPr>
        <p:spPr>
          <a:xfrm>
            <a:off x="23869800" y="40728960"/>
            <a:ext cx="543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hysical Review Letters, …, …</a:t>
            </a:r>
            <a:endParaRPr b="0" i="1" lang="en-US" sz="2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Picture 34" descr=""/>
          <p:cNvPicPr/>
          <p:nvPr/>
        </p:nvPicPr>
        <p:blipFill>
          <a:blip r:embed="rId1"/>
          <a:stretch/>
        </p:blipFill>
        <p:spPr>
          <a:xfrm>
            <a:off x="1247760" y="228276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7" descr=""/>
          <p:cNvPicPr/>
          <p:nvPr/>
        </p:nvPicPr>
        <p:blipFill>
          <a:blip r:embed="rId2"/>
          <a:stretch/>
        </p:blipFill>
        <p:spPr>
          <a:xfrm>
            <a:off x="16449840" y="8318520"/>
            <a:ext cx="6076800" cy="688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9"/>
          <p:cNvSpPr/>
          <p:nvPr/>
        </p:nvSpPr>
        <p:spPr>
          <a:xfrm>
            <a:off x="22678920" y="8555040"/>
            <a:ext cx="8991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x xxx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x xxx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38"/>
          <p:cNvGraphicFramePr/>
          <p:nvPr/>
        </p:nvGraphicFramePr>
        <p:xfrm>
          <a:off x="24774480" y="9317160"/>
          <a:ext cx="4659480" cy="98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74480" y="9317160"/>
                    <a:ext cx="465948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42" descr=""/>
          <p:cNvPicPr/>
          <p:nvPr/>
        </p:nvPicPr>
        <p:blipFill>
          <a:blip r:embed="rId5"/>
          <a:stretch/>
        </p:blipFill>
        <p:spPr>
          <a:xfrm>
            <a:off x="961920" y="21297960"/>
            <a:ext cx="14727240" cy="1121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3" descr=""/>
          <p:cNvPicPr/>
          <p:nvPr/>
        </p:nvPicPr>
        <p:blipFill>
          <a:blip r:embed="rId6"/>
          <a:stretch/>
        </p:blipFill>
        <p:spPr>
          <a:xfrm>
            <a:off x="16765560" y="21297960"/>
            <a:ext cx="14733720" cy="112140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47" descr=""/>
          <p:cNvPicPr/>
          <p:nvPr/>
        </p:nvPicPr>
        <p:blipFill>
          <a:blip r:embed="rId7"/>
          <a:stretch/>
        </p:blipFill>
        <p:spPr>
          <a:xfrm>
            <a:off x="25499880" y="1517760"/>
            <a:ext cx="5881680" cy="5425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961920" y="2436840"/>
            <a:ext cx="581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logo of your University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5-05-05T00:16:04Z</dcterms:modified>
  <cp:revision>2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