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023263" cy="30275213"/>
  <p:notesSz cx="311658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1A7-78ED-41BE-9D26-C84A1376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76440" y="2693880"/>
            <a:ext cx="178704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6440" y="8751600"/>
            <a:ext cx="1787040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76440" y="18236880"/>
            <a:ext cx="1787040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51E-6228-4741-8B02-430E9F28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6440" y="2693880"/>
            <a:ext cx="178704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76440" y="8751600"/>
            <a:ext cx="872064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33400" y="8751600"/>
            <a:ext cx="872064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76440" y="18236880"/>
            <a:ext cx="872064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733400" y="18236880"/>
            <a:ext cx="872064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DD9-544B-44FA-B78B-02187D42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76440" y="2693880"/>
            <a:ext cx="178704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76440" y="8751600"/>
            <a:ext cx="575388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18320" y="8751600"/>
            <a:ext cx="575388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60200" y="8751600"/>
            <a:ext cx="575388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76440" y="18236880"/>
            <a:ext cx="575388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618320" y="18236880"/>
            <a:ext cx="575388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3660200" y="18236880"/>
            <a:ext cx="575388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28C-0EDC-4DED-802B-868A1A2B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76440" y="2693880"/>
            <a:ext cx="178704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76440" y="8751600"/>
            <a:ext cx="17870400" cy="181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699-4904-4ABF-A4D3-2C3AB997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76440" y="2693880"/>
            <a:ext cx="178704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76440" y="8751600"/>
            <a:ext cx="17870400" cy="18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5A9-9283-4079-8E84-4DB97573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76440" y="2693880"/>
            <a:ext cx="178704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76440" y="8751600"/>
            <a:ext cx="8720640" cy="18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733400" y="8751600"/>
            <a:ext cx="8720640" cy="18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D12-AD3F-46C0-850B-D32FD92E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6440" y="2693880"/>
            <a:ext cx="178704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48E-265E-4531-B2CC-F8599C1F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76440" y="2693880"/>
            <a:ext cx="17870400" cy="2338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C53-8E53-4D67-B2DB-EE42F393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76440" y="2693880"/>
            <a:ext cx="178704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76440" y="8751600"/>
            <a:ext cx="872064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733400" y="8751600"/>
            <a:ext cx="8720640" cy="18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76440" y="18236880"/>
            <a:ext cx="872064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902-6C5B-49F0-89E4-C0039314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76440" y="2693880"/>
            <a:ext cx="178704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76440" y="8751600"/>
            <a:ext cx="8720640" cy="18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733400" y="8751600"/>
            <a:ext cx="872064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733400" y="18236880"/>
            <a:ext cx="872064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586-2F83-4785-BAC9-FC154399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76440" y="2693880"/>
            <a:ext cx="178704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6440" y="8751600"/>
            <a:ext cx="872064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733400" y="8751600"/>
            <a:ext cx="872064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76440" y="18236880"/>
            <a:ext cx="17870400" cy="86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780-928A-404E-88DE-F161774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76440" y="2693880"/>
            <a:ext cx="178704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76440" y="8751600"/>
            <a:ext cx="17870400" cy="18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204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163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9480" indent="-163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77800" indent="-16344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77800" indent="-16344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77800" indent="-16344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76440" y="27582840"/>
            <a:ext cx="437976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83440" y="27582840"/>
            <a:ext cx="66564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067080" y="27582840"/>
            <a:ext cx="437976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B087-BA5E-4062-B2C6-5A40EDCA17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526"/>
          <p:cNvGrpSpPr/>
          <p:nvPr/>
        </p:nvGrpSpPr>
        <p:grpSpPr>
          <a:xfrm>
            <a:off x="12420720" y="13271400"/>
            <a:ext cx="8478720" cy="6519960"/>
            <a:chOff x="12420720" y="13271400"/>
            <a:chExt cx="8478720" cy="6519960"/>
          </a:xfrm>
        </p:grpSpPr>
        <p:pic>
          <p:nvPicPr>
            <p:cNvPr id="42" name="图片 2406" descr="\\ntdfs\cs\unix\projects\edtech\papers\sigcse2003\poster\sketches\person_with_tablet-color.bmp"/>
            <p:cNvPicPr/>
            <p:nvPr/>
          </p:nvPicPr>
          <p:blipFill>
            <a:blip r:embed="rId1"/>
            <a:stretch/>
          </p:blipFill>
          <p:spPr>
            <a:xfrm>
              <a:off x="16551360" y="17179920"/>
              <a:ext cx="182628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2407" descr="\\ntdfs\cs\unix\projects\edtech\papers\sigcse2003\poster\sketches\students_without_laptops.bmp"/>
            <p:cNvPicPr/>
            <p:nvPr/>
          </p:nvPicPr>
          <p:blipFill>
            <a:blip r:embed="rId2"/>
            <a:stretch/>
          </p:blipFill>
          <p:spPr>
            <a:xfrm>
              <a:off x="12601800" y="15442200"/>
              <a:ext cx="2446200" cy="40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2408" descr="\\ntdfs\cs\unix\projects\edtech\papers\sigcse2003\poster\sketches\projector_and_cpu.bmp"/>
            <p:cNvPicPr/>
            <p:nvPr/>
          </p:nvPicPr>
          <p:blipFill>
            <a:blip r:embed="rId3"/>
            <a:stretch/>
          </p:blipFill>
          <p:spPr>
            <a:xfrm>
              <a:off x="14856120" y="13973040"/>
              <a:ext cx="235872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平行四边形 2409"/>
            <p:cNvSpPr/>
            <p:nvPr/>
          </p:nvSpPr>
          <p:spPr>
            <a:xfrm rot="16200000">
              <a:off x="17907480" y="14242320"/>
              <a:ext cx="3025440" cy="2607480"/>
            </a:xfrm>
            <a:prstGeom prst="parallelogram">
              <a:avLst>
                <a:gd name="adj" fmla="val 34825"/>
              </a:avLst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2415"/>
            <p:cNvSpPr/>
            <p:nvPr/>
          </p:nvSpPr>
          <p:spPr>
            <a:xfrm flipH="1">
              <a:off x="17159040" y="14036040"/>
              <a:ext cx="924120" cy="860760"/>
            </a:xfrm>
            <a:prstGeom prst="line">
              <a:avLst/>
            </a:prstGeom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2416"/>
            <p:cNvSpPr/>
            <p:nvPr/>
          </p:nvSpPr>
          <p:spPr>
            <a:xfrm flipH="1" flipV="1">
              <a:off x="17240760" y="15358320"/>
              <a:ext cx="826200" cy="768240"/>
            </a:xfrm>
            <a:prstGeom prst="line">
              <a:avLst/>
            </a:prstGeom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2417"/>
            <p:cNvSpPr/>
            <p:nvPr/>
          </p:nvSpPr>
          <p:spPr>
            <a:xfrm flipH="1" flipV="1">
              <a:off x="15813000" y="15941880"/>
              <a:ext cx="1047240" cy="1653840"/>
            </a:xfrm>
            <a:prstGeom prst="line">
              <a:avLst/>
            </a:prstGeom>
            <a:ln w="152280">
              <a:solidFill>
                <a:srgbClr val="ff8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文本框 2423"/>
            <p:cNvSpPr/>
            <p:nvPr/>
          </p:nvSpPr>
          <p:spPr>
            <a:xfrm>
              <a:off x="18466200" y="17724240"/>
              <a:ext cx="22950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instructor with Tablet P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文本框 2424"/>
            <p:cNvSpPr/>
            <p:nvPr/>
          </p:nvSpPr>
          <p:spPr>
            <a:xfrm>
              <a:off x="12997800" y="13948560"/>
              <a:ext cx="184752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C driving classroom projecto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2425"/>
            <p:cNvSpPr/>
            <p:nvPr/>
          </p:nvSpPr>
          <p:spPr>
            <a:xfrm rot="3540000">
              <a:off x="15342840" y="16762320"/>
              <a:ext cx="166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080"/>
                  </a:solidFill>
                  <a:latin typeface="Arial"/>
                </a:rPr>
                <a:t>WIREL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2438"/>
            <p:cNvSpPr/>
            <p:nvPr/>
          </p:nvSpPr>
          <p:spPr>
            <a:xfrm>
              <a:off x="12420720" y="13271400"/>
              <a:ext cx="8478720" cy="6519960"/>
            </a:xfrm>
            <a:prstGeom prst="roundRect">
              <a:avLst>
                <a:gd name="adj" fmla="val 5917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62800" rIns="131400" tIns="492840" bIns="9864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下箭头 2533"/>
          <p:cNvSpPr/>
          <p:nvPr/>
        </p:nvSpPr>
        <p:spPr>
          <a:xfrm rot="10800000">
            <a:off x="12375720" y="19010160"/>
            <a:ext cx="1041480" cy="1751040"/>
          </a:xfrm>
          <a:prstGeom prst="downArrow">
            <a:avLst>
              <a:gd name="adj1" fmla="val 48685"/>
              <a:gd name="adj2" fmla="val 51886"/>
            </a:avLst>
          </a:prstGeom>
          <a:solidFill>
            <a:srgbClr val="ec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2534"/>
          <p:cNvSpPr/>
          <p:nvPr/>
        </p:nvSpPr>
        <p:spPr>
          <a:xfrm>
            <a:off x="12376080" y="20796120"/>
            <a:ext cx="8477280" cy="6799320"/>
          </a:xfrm>
          <a:prstGeom prst="roundRect">
            <a:avLst>
              <a:gd name="adj" fmla="val 2764"/>
            </a:avLst>
          </a:prstGeom>
          <a:solidFill>
            <a:srgbClr val="ecd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1400" rIns="131400" tIns="1149840" bIns="9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535"/>
          <p:cNvSpPr/>
          <p:nvPr/>
        </p:nvSpPr>
        <p:spPr>
          <a:xfrm>
            <a:off x="12428640" y="20846880"/>
            <a:ext cx="3778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structor Vie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下箭头 2532"/>
          <p:cNvSpPr/>
          <p:nvPr/>
        </p:nvSpPr>
        <p:spPr>
          <a:xfrm>
            <a:off x="18943560" y="12055320"/>
            <a:ext cx="1040040" cy="1751040"/>
          </a:xfrm>
          <a:prstGeom prst="downArrow">
            <a:avLst>
              <a:gd name="adj1" fmla="val 48685"/>
              <a:gd name="adj2" fmla="val 51951"/>
            </a:avLst>
          </a:prstGeom>
          <a:solidFill>
            <a:srgbClr val="ec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527"/>
          <p:cNvSpPr/>
          <p:nvPr/>
        </p:nvSpPr>
        <p:spPr>
          <a:xfrm>
            <a:off x="12376080" y="5149800"/>
            <a:ext cx="8477280" cy="6932520"/>
          </a:xfrm>
          <a:prstGeom prst="roundRect">
            <a:avLst>
              <a:gd name="adj" fmla="val 2764"/>
            </a:avLst>
          </a:prstGeom>
          <a:solidFill>
            <a:srgbClr val="ecd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1400" rIns="131400" tIns="1149840" bIns="9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2083"/>
          <p:cNvSpPr/>
          <p:nvPr/>
        </p:nvSpPr>
        <p:spPr>
          <a:xfrm>
            <a:off x="163440" y="547560"/>
            <a:ext cx="20688480" cy="3649680"/>
          </a:xfrm>
          <a:prstGeom prst="roundRect">
            <a:avLst>
              <a:gd name="adj" fmla="val 14912"/>
            </a:avLst>
          </a:prstGeom>
          <a:solidFill>
            <a:srgbClr val="ecd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Arial"/>
              </a:rPr>
              <a:t>Classroom Presenter: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Arial"/>
              </a:rPr>
              <a:t>A Tablet PC-based Presentation System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ichard Anderson</a:t>
            </a:r>
            <a:r>
              <a:rPr b="0" lang="ar-SA" sz="3100" spc="-1" strike="noStrike">
                <a:solidFill>
                  <a:srgbClr val="000000"/>
                </a:solidFill>
                <a:latin typeface="Arial"/>
              </a:rPr>
              <a:t>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uth Anderson</a:t>
            </a:r>
            <a:r>
              <a:rPr b="1" lang="en-US" sz="31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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, Tammy VanDeGrift</a:t>
            </a:r>
            <a:r>
              <a:rPr b="0" lang="ar-SA" sz="3100" spc="-1" strike="noStrike">
                <a:solidFill>
                  <a:srgbClr val="000000"/>
                </a:solidFill>
                <a:latin typeface="Arial"/>
              </a:rPr>
              <a:t>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teven A. Wolfman</a:t>
            </a:r>
            <a:r>
              <a:rPr b="0" lang="ar-SA" sz="3100" spc="-1" strike="noStrike">
                <a:solidFill>
                  <a:srgbClr val="000000"/>
                </a:solidFill>
                <a:latin typeface="Arial"/>
              </a:rPr>
              <a:t>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Ken Yasuhara</a:t>
            </a:r>
            <a:r>
              <a:rPr b="0" lang="ar-SA" sz="3100" spc="-1" strike="noStrike">
                <a:solidFill>
                  <a:srgbClr val="000000"/>
                </a:solidFill>
                <a:latin typeface="Arial"/>
              </a:rPr>
              <a:t>٭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Console"/>
              </a:rPr>
              <a:t>http://www.cs.washington.edu/research/edtech/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059"/>
          <p:cNvSpPr/>
          <p:nvPr/>
        </p:nvSpPr>
        <p:spPr>
          <a:xfrm>
            <a:off x="0" y="1998720"/>
            <a:ext cx="0" cy="290520"/>
          </a:xfrm>
          <a:prstGeom prst="line">
            <a:avLst/>
          </a:prstGeom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060"/>
          <p:cNvSpPr/>
          <p:nvPr/>
        </p:nvSpPr>
        <p:spPr>
          <a:xfrm>
            <a:off x="0" y="1998720"/>
            <a:ext cx="219240" cy="0"/>
          </a:xfrm>
          <a:prstGeom prst="line">
            <a:avLst/>
          </a:prstGeom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061"/>
          <p:cNvSpPr/>
          <p:nvPr/>
        </p:nvSpPr>
        <p:spPr>
          <a:xfrm>
            <a:off x="21023280" y="1998720"/>
            <a:ext cx="0" cy="290520"/>
          </a:xfrm>
          <a:prstGeom prst="line">
            <a:avLst/>
          </a:prstGeom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062"/>
          <p:cNvSpPr/>
          <p:nvPr/>
        </p:nvSpPr>
        <p:spPr>
          <a:xfrm>
            <a:off x="20805840" y="1998720"/>
            <a:ext cx="217440" cy="0"/>
          </a:xfrm>
          <a:prstGeom prst="line">
            <a:avLst/>
          </a:prstGeom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2063"/>
          <p:cNvSpPr/>
          <p:nvPr/>
        </p:nvSpPr>
        <p:spPr>
          <a:xfrm>
            <a:off x="0" y="29507040"/>
            <a:ext cx="0" cy="218880"/>
          </a:xfrm>
          <a:prstGeom prst="line">
            <a:avLst/>
          </a:prstGeom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064"/>
          <p:cNvSpPr/>
          <p:nvPr/>
        </p:nvSpPr>
        <p:spPr>
          <a:xfrm>
            <a:off x="0" y="29719440"/>
            <a:ext cx="219240" cy="0"/>
          </a:xfrm>
          <a:prstGeom prst="line">
            <a:avLst/>
          </a:prstGeom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2107"/>
          <p:cNvSpPr/>
          <p:nvPr/>
        </p:nvSpPr>
        <p:spPr>
          <a:xfrm>
            <a:off x="163440" y="28632240"/>
            <a:ext cx="5913360" cy="1039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1400" rIns="131400" tIns="230040" bIns="9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 thank the many students, teaching assistants, and instructors who provided feed-back on the system and participated in studies. We also thank innumerable colleages at our institutions and in the Microsoft Research Learning Sciences &amp; Technology group. This work was supported in part by a grant from Microsoft Research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2112"/>
          <p:cNvSpPr/>
          <p:nvPr/>
        </p:nvSpPr>
        <p:spPr>
          <a:xfrm>
            <a:off x="328680" y="28402200"/>
            <a:ext cx="2293920" cy="407880"/>
          </a:xfrm>
          <a:prstGeom prst="roundRect">
            <a:avLst>
              <a:gd name="adj" fmla="val 16667"/>
            </a:avLst>
          </a:prstGeom>
          <a:solidFill>
            <a:srgbClr val="ecd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2079"/>
          <p:cNvSpPr/>
          <p:nvPr/>
        </p:nvSpPr>
        <p:spPr>
          <a:xfrm>
            <a:off x="6186600" y="28632240"/>
            <a:ext cx="14666760" cy="1039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2065"/>
          <p:cNvSpPr/>
          <p:nvPr/>
        </p:nvSpPr>
        <p:spPr>
          <a:xfrm>
            <a:off x="21023280" y="29507040"/>
            <a:ext cx="0" cy="218880"/>
          </a:xfrm>
          <a:prstGeom prst="line">
            <a:avLst/>
          </a:prstGeom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066"/>
          <p:cNvSpPr/>
          <p:nvPr/>
        </p:nvSpPr>
        <p:spPr>
          <a:xfrm>
            <a:off x="20805840" y="29725920"/>
            <a:ext cx="217440" cy="0"/>
          </a:xfrm>
          <a:prstGeom prst="line">
            <a:avLst/>
          </a:prstGeom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069"/>
          <p:cNvSpPr/>
          <p:nvPr/>
        </p:nvSpPr>
        <p:spPr>
          <a:xfrm>
            <a:off x="11290320" y="28746360"/>
            <a:ext cx="508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W CSE, Seattle, WA 98195-2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{anderson,tammy,wolf,yasuhara}@cs.washington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 of Virginia, Computer Science, Charlottesville, VA 22904-47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uth@cs.virginia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082"/>
          <p:cNvSpPr/>
          <p:nvPr/>
        </p:nvSpPr>
        <p:spPr>
          <a:xfrm>
            <a:off x="6351480" y="28401840"/>
            <a:ext cx="2448000" cy="417240"/>
          </a:xfrm>
          <a:prstGeom prst="roundRect">
            <a:avLst>
              <a:gd name="adj" fmla="val 20176"/>
            </a:avLst>
          </a:prstGeom>
          <a:solidFill>
            <a:srgbClr val="ecd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115"/>
          <p:cNvSpPr/>
          <p:nvPr/>
        </p:nvSpPr>
        <p:spPr>
          <a:xfrm>
            <a:off x="7218360" y="28897200"/>
            <a:ext cx="39528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 of Washington, Computer Science &amp;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&amp; Educational Technology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http://www.cs.washington.edu/research/edtec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148"/>
          <p:cNvSpPr/>
          <p:nvPr/>
        </p:nvSpPr>
        <p:spPr>
          <a:xfrm>
            <a:off x="163440" y="5126040"/>
            <a:ext cx="8705880" cy="5010120"/>
          </a:xfrm>
          <a:prstGeom prst="roundRect">
            <a:avLst>
              <a:gd name="adj" fmla="val 591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1400" rIns="131400" tIns="1149840" bIns="9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head projectors and whiteboards offer instructors th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reedom to adapt presentation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suit the audience. Existing computer-based presentation tools such as PowerPoint are less flexible but offer advantages in preparing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ructured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entation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igh-quality example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llustr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assroo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esent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ovide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ovel navigation and handwriting feature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tivated by experience with the system in real classrooms and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ully integrates the advantage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 computer-based presentation systems with the flexibility of handwriting provided by conventional syste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2152"/>
          <p:cNvSpPr/>
          <p:nvPr/>
        </p:nvSpPr>
        <p:spPr>
          <a:xfrm>
            <a:off x="382680" y="4841640"/>
            <a:ext cx="7196040" cy="1418040"/>
          </a:xfrm>
          <a:prstGeom prst="roundRect">
            <a:avLst>
              <a:gd name="adj" fmla="val 30954"/>
            </a:avLst>
          </a:prstGeom>
          <a:solidFill>
            <a:srgbClr val="ecd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1400" rIns="1314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eyond Conventional and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omputer-based Present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2156" descr="pview"/>
          <p:cNvPicPr/>
          <p:nvPr/>
        </p:nvPicPr>
        <p:blipFill>
          <a:blip r:embed="rId4"/>
          <a:stretch/>
        </p:blipFill>
        <p:spPr>
          <a:xfrm>
            <a:off x="12522240" y="5813280"/>
            <a:ext cx="8180280" cy="61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文本框 2159"/>
          <p:cNvSpPr/>
          <p:nvPr/>
        </p:nvSpPr>
        <p:spPr>
          <a:xfrm>
            <a:off x="12428640" y="5200560"/>
            <a:ext cx="3778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lassroom Vie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2167"/>
          <p:cNvSpPr/>
          <p:nvPr/>
        </p:nvSpPr>
        <p:spPr>
          <a:xfrm>
            <a:off x="163440" y="11539440"/>
            <a:ext cx="8705880" cy="8020080"/>
          </a:xfrm>
          <a:prstGeom prst="roundRect">
            <a:avLst>
              <a:gd name="adj" fmla="val 380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62800" rIns="131400" tIns="492840" bIns="986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Ongoing Use of Classroom Prese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5 courses, 10 instructors, ~1400 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2168"/>
          <p:cNvSpPr/>
          <p:nvPr/>
        </p:nvSpPr>
        <p:spPr>
          <a:xfrm>
            <a:off x="382680" y="11130120"/>
            <a:ext cx="7556400" cy="822240"/>
          </a:xfrm>
          <a:prstGeom prst="roundRect">
            <a:avLst>
              <a:gd name="adj" fmla="val 30954"/>
            </a:avLst>
          </a:prstGeom>
          <a:solidFill>
            <a:srgbClr val="ecd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31400" rIns="1314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-Class Studies, Iterative Desig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2283"/>
          <p:cNvSpPr/>
          <p:nvPr/>
        </p:nvSpPr>
        <p:spPr>
          <a:xfrm>
            <a:off x="165240" y="20872440"/>
            <a:ext cx="8704080" cy="6888240"/>
          </a:xfrm>
          <a:prstGeom prst="roundRect">
            <a:avLst>
              <a:gd name="adj" fmla="val 591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1400" rIns="131400" tIns="55836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room Presenter has been enthusiastically received by students and instructo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tudent Responses About</a:t>
            </a:r>
            <a:br>
              <a:rPr sz="2300"/>
            </a:b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Classroom Prese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(vs. PowerPoint</a:t>
            </a:r>
            <a:br>
              <a:rPr sz="2300"/>
            </a:b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&amp; whiteboar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interviews, the instructor said handwriting on the Tablet PC was very natural. He said he could giv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re engaging presentatio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because he could draw pictures and provide stimulus for the students. The instructor repeatedly mentioned to the class that 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oved using Classroom Presenter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even telling them he wished he could use the system in his other courses to make them bett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2284"/>
          <p:cNvSpPr/>
          <p:nvPr/>
        </p:nvSpPr>
        <p:spPr>
          <a:xfrm>
            <a:off x="382680" y="20488320"/>
            <a:ext cx="7665840" cy="820800"/>
          </a:xfrm>
          <a:prstGeom prst="roundRect">
            <a:avLst>
              <a:gd name="adj" fmla="val 30954"/>
            </a:avLst>
          </a:prstGeom>
          <a:solidFill>
            <a:srgbClr val="ecd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31400" rIns="1314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tudent and Instructor Respon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标注 2391"/>
          <p:cNvSpPr/>
          <p:nvPr/>
        </p:nvSpPr>
        <p:spPr>
          <a:xfrm>
            <a:off x="9037800" y="5073480"/>
            <a:ext cx="3225600" cy="4933800"/>
          </a:xfrm>
          <a:prstGeom prst="wedgeRectCallout">
            <a:avLst>
              <a:gd name="adj1" fmla="val 61481"/>
              <a:gd name="adj2" fmla="val 1601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1400" rIns="131400" tIns="98640" bIns="9864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igh-quality handwriting directly over slid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llows instructors to extem-poraneously augment prepared slid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andwriting on a separate laye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om the slides allows instructor to scroll off handwriting to accom-modate additional notes—“virtual mylar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标注 2392"/>
          <p:cNvSpPr/>
          <p:nvPr/>
        </p:nvSpPr>
        <p:spPr>
          <a:xfrm>
            <a:off x="9037800" y="10677600"/>
            <a:ext cx="3225600" cy="2299320"/>
          </a:xfrm>
          <a:prstGeom prst="wedgeRectCallout">
            <a:avLst>
              <a:gd name="adj1" fmla="val 87861"/>
              <a:gd name="adj2" fmla="val -2592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1400" rIns="131400" tIns="98640" bIns="9864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hrinking the current slid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expands margin space for additional handwriting without losing presentation contex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410" descr="iview1"/>
          <p:cNvPicPr/>
          <p:nvPr/>
        </p:nvPicPr>
        <p:blipFill>
          <a:blip r:embed="rId5"/>
          <a:stretch/>
        </p:blipFill>
        <p:spPr>
          <a:xfrm>
            <a:off x="12501720" y="21464640"/>
            <a:ext cx="8258040" cy="598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矩形标注 2412"/>
          <p:cNvSpPr/>
          <p:nvPr/>
        </p:nvSpPr>
        <p:spPr>
          <a:xfrm>
            <a:off x="9037800" y="24595200"/>
            <a:ext cx="3225600" cy="2999880"/>
          </a:xfrm>
          <a:prstGeom prst="wedgeRectCallout">
            <a:avLst>
              <a:gd name="adj1" fmla="val 58689"/>
              <a:gd name="adj2" fmla="val -4518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1400" rIns="131400" tIns="98640" bIns="9864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lmstrip View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plays current slide in context of next and previous slides, including handwriting. Instructor can click on a slide to navigate directly to 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标注 2413"/>
          <p:cNvSpPr/>
          <p:nvPr/>
        </p:nvSpPr>
        <p:spPr>
          <a:xfrm>
            <a:off x="9037800" y="21647160"/>
            <a:ext cx="3225600" cy="2299320"/>
          </a:xfrm>
          <a:prstGeom prst="wedgeRectCallout">
            <a:avLst>
              <a:gd name="adj1" fmla="val 58800"/>
              <a:gd name="adj2" fmla="val -516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1400" rIns="131400" tIns="98640" bIns="9864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oolba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ludes choices of pen color and type (marker vs. highlighter), erasing handwriting, switching to whiteboard mod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393"/>
          <p:cNvSpPr/>
          <p:nvPr/>
        </p:nvSpPr>
        <p:spPr>
          <a:xfrm>
            <a:off x="9037800" y="17991000"/>
            <a:ext cx="3225600" cy="299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1400" rIns="131400" tIns="98640" bIns="98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ireless networking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llows instructor to move freely about the classroom or even hand the tablet to students, e.g., to handwrite solutions to in-class exercis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414"/>
          <p:cNvSpPr/>
          <p:nvPr/>
        </p:nvSpPr>
        <p:spPr>
          <a:xfrm>
            <a:off x="9037800" y="13625640"/>
            <a:ext cx="3225600" cy="3700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1400" rIns="131400" tIns="98640" bIns="98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paration of Instructor and Classroom view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llows instructor’s interface to be tailored for fast, direct access to useful features, e.g., filmstrip view and notes displayed only to the instruct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422"/>
          <p:cNvSpPr/>
          <p:nvPr/>
        </p:nvSpPr>
        <p:spPr>
          <a:xfrm>
            <a:off x="4094280" y="8415360"/>
            <a:ext cx="311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五边形 2427"/>
          <p:cNvSpPr/>
          <p:nvPr/>
        </p:nvSpPr>
        <p:spPr>
          <a:xfrm>
            <a:off x="438120" y="12170520"/>
            <a:ext cx="3995640" cy="1949400"/>
          </a:xfrm>
          <a:custGeom>
            <a:avLst/>
            <a:gdLst>
              <a:gd name="textAreaLeft" fmla="*/ 0 w 3995640"/>
              <a:gd name="textAreaRight" fmla="*/ 3995640 w 3995640"/>
              <a:gd name="textAreaTop" fmla="*/ 0 h 1949400"/>
              <a:gd name="textAreaBottom" fmla="*/ 194976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6" y="0"/>
                </a:lnTo>
                <a:lnTo>
                  <a:pt x="21600" y="10800"/>
                </a:lnTo>
                <a:lnTo>
                  <a:pt x="185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b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1400" rIns="131400" tIns="98640" bIns="98640" anchor="ctr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ackground Stud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urse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distance-learning cryptograp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tu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werPoint and digitizing white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五边形 2430"/>
          <p:cNvSpPr/>
          <p:nvPr/>
        </p:nvSpPr>
        <p:spPr>
          <a:xfrm>
            <a:off x="438120" y="12171960"/>
            <a:ext cx="4599000" cy="1949400"/>
          </a:xfrm>
          <a:custGeom>
            <a:avLst/>
            <a:gdLst>
              <a:gd name="textAreaLeft" fmla="*/ 0 w 4599000"/>
              <a:gd name="textAreaRight" fmla="*/ 4599360 w 4599000"/>
              <a:gd name="textAreaTop" fmla="*/ 0 h 1949400"/>
              <a:gd name="textAreaBottom" fmla="*/ 194976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03" y="0"/>
                </a:lnTo>
                <a:lnTo>
                  <a:pt x="21600" y="10800"/>
                </a:lnTo>
                <a:lnTo>
                  <a:pt x="20203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1400" rIns="131400" tIns="98640" bIns="98640" anchor="ctr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Background Stud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urse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distance-learning cryptograp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tu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werPoint and digitizing white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431"/>
          <p:cNvSpPr/>
          <p:nvPr/>
        </p:nvSpPr>
        <p:spPr>
          <a:xfrm>
            <a:off x="5256360" y="12168360"/>
            <a:ext cx="3284280" cy="1957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1400" rIns="131400" tIns="98640" bIns="9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sign lesson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tegration of handwriting directly over sli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五边形 2432"/>
          <p:cNvSpPr/>
          <p:nvPr/>
        </p:nvSpPr>
        <p:spPr>
          <a:xfrm>
            <a:off x="438120" y="14284440"/>
            <a:ext cx="4599000" cy="2852640"/>
          </a:xfrm>
          <a:custGeom>
            <a:avLst/>
            <a:gdLst>
              <a:gd name="textAreaLeft" fmla="*/ 0 w 4599000"/>
              <a:gd name="textAreaRight" fmla="*/ 4599360 w 4599000"/>
              <a:gd name="textAreaTop" fmla="*/ 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1" y="0"/>
                </a:lnTo>
                <a:lnTo>
                  <a:pt x="21600" y="10800"/>
                </a:lnTo>
                <a:lnTo>
                  <a:pt x="2025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1400" rIns="131400" tIns="98640" bIns="9864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Pilot Stud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urse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distance-learning databases; large, non-distance intro programm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tu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successive versions of Classroom Prese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433"/>
          <p:cNvSpPr/>
          <p:nvPr/>
        </p:nvSpPr>
        <p:spPr>
          <a:xfrm>
            <a:off x="5256360" y="14287680"/>
            <a:ext cx="3284280" cy="2846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1400" rIns="131400" tIns="98640" bIns="9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sign lessons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paration of instructor view with handwriting and presentation control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ue of wireless instructor dev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434"/>
          <p:cNvSpPr/>
          <p:nvPr/>
        </p:nvSpPr>
        <p:spPr>
          <a:xfrm>
            <a:off x="438120" y="17314920"/>
            <a:ext cx="8102520" cy="120492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1400" rIns="131400" tIns="98640" bIns="9864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Deployment Stud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urse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large, non-distance intro programm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tu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lassroom Prese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65400" y="22493160"/>
          <a:ext cx="5584680" cy="2378160"/>
        </p:xfrm>
        <a:graphic>
          <a:graphicData uri="http://schemas.openxmlformats.org/drawingml/2006/table">
            <a:tbl>
              <a:tblPr/>
              <a:tblGrid>
                <a:gridCol w="2055960"/>
                <a:gridCol w="1176120"/>
                <a:gridCol w="1176480"/>
                <a:gridCol w="117612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han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tion to lectur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standing of lectur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圆角矩形 2519"/>
          <p:cNvSpPr/>
          <p:nvPr/>
        </p:nvSpPr>
        <p:spPr>
          <a:xfrm>
            <a:off x="12647520" y="12228480"/>
            <a:ext cx="4872240" cy="820800"/>
          </a:xfrm>
          <a:prstGeom prst="roundRect">
            <a:avLst>
              <a:gd name="adj" fmla="val 30954"/>
            </a:avLst>
          </a:prstGeom>
          <a:solidFill>
            <a:srgbClr val="ecd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31400" rIns="1314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20"/>
          <p:cNvSpPr/>
          <p:nvPr/>
        </p:nvSpPr>
        <p:spPr>
          <a:xfrm>
            <a:off x="-7116840" y="1998720"/>
            <a:ext cx="6624720" cy="3524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 Yasuh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setting for printing for PDF distilling (and probably best to do for wide-body printer, to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er’s advanced properties -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 -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Type Font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wnload as Soft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536"/>
          <p:cNvSpPr/>
          <p:nvPr/>
        </p:nvSpPr>
        <p:spPr>
          <a:xfrm>
            <a:off x="16322760" y="28829160"/>
            <a:ext cx="44830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 Presenter is available free for educational and research 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http://www.cs.washington.edu/education/dl/presenter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2537"/>
          <p:cNvGrpSpPr/>
          <p:nvPr/>
        </p:nvGrpSpPr>
        <p:grpSpPr>
          <a:xfrm>
            <a:off x="6345360" y="28849680"/>
            <a:ext cx="738000" cy="766800"/>
            <a:chOff x="6345360" y="28849680"/>
            <a:chExt cx="738000" cy="766800"/>
          </a:xfrm>
        </p:grpSpPr>
        <p:pic>
          <p:nvPicPr>
            <p:cNvPr id="100" name="图片 2538" descr="C:\Documents and Settings\yasuhara\Desktop\CSElogo_1000.gif"/>
            <p:cNvPicPr/>
            <p:nvPr/>
          </p:nvPicPr>
          <p:blipFill>
            <a:blip r:embed="rId10"/>
            <a:stretch/>
          </p:blipFill>
          <p:spPr>
            <a:xfrm>
              <a:off x="6467040" y="28978200"/>
              <a:ext cx="49608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2539"/>
            <p:cNvSpPr txBox="1"/>
            <p:nvPr/>
          </p:nvSpPr>
          <p:spPr>
            <a:xfrm rot="5400000">
              <a:off x="6330960" y="28864080"/>
              <a:ext cx="766800" cy="73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Circle">
                <a:avLst>
                  <a:gd name="adj" fmla="val 574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9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entury Gothic"/>
                </a:rPr>
                <a:t>      </a:t>
              </a:r>
              <a:r>
                <a:rPr b="0" lang="en-US" sz="259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entury Gothic"/>
                </a:rPr>
                <a:t>Education           Technology    </a:t>
              </a:r>
              <a:endParaRPr b="0" lang="en-US" sz="259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entury Gothic"/>
                <a:ea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7:32:57Z</dcterms:created>
  <dc:creator>wolf</dc:creator>
  <dc:description/>
  <dc:language>en-US</dc:language>
  <cp:lastModifiedBy>WPS_1661305550</cp:lastModifiedBy>
  <dcterms:modified xsi:type="dcterms:W3CDTF">2023-06-15T01:43:14Z</dcterms:modified>
  <cp:revision>1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6AE9970EDC244BC9773D0C6DF9674F1_12</vt:lpwstr>
  </property>
  <property fmtid="{D5CDD505-2E9C-101B-9397-08002B2CF9AE}" pid="3" name="KSOProductBuildVer">
    <vt:lpwstr>2052-11.1.0.14309</vt:lpwstr>
  </property>
</Properties>
</file>